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029D-C62D-455B-8C5B-942E66E88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6603-B67A-427F-A630-25506015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23D5-65EE-436A-9776-873D7B6B1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DB2B-C3C1-43C3-B5AF-255D0E48C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6395-BCBC-427D-9C5A-BAD21741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9319-6A0E-4681-9056-ACBDE939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FB14-A500-4DC6-8BFC-BDE10FEA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A483-C1E7-45A2-97A0-5AF02A43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B3E3-9FD1-453F-A3C7-5796AE63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3D64-73CC-4C5A-A57A-09C94735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4C67-D2CF-41FF-B9F8-0BFF2BE6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BF5F-6D41-4C49-93EC-41F014DE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8B8C-7C8C-4DC9-B458-A79AA496DCC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b5yTanmi7A&amp;feature=related" TargetMode="External"/><Relationship Id="rId2" Type="http://schemas.openxmlformats.org/officeDocument/2006/relationships/hyperlink" Target="http://www.youtube.com/watch?v=Xb5yTanmi7A&amp;feature=related" TargetMode="External"/><Relationship Id="rId3" Type="http://schemas.openxmlformats.org/officeDocument/2006/relationships/hyperlink" Target="http://www.youtube.com/watch?v=Xb5yTanmi7A&amp;feature=related" TargetMode="External"/><Relationship Id="rId4" Type="http://schemas.openxmlformats.org/officeDocument/2006/relationships/hyperlink" Target="http://www.youtube.com/watch?v=bHMQEggEG4k&amp;feature=related" TargetMode="External"/><Relationship Id="rId5" Type="http://schemas.openxmlformats.org/officeDocument/2006/relationships/hyperlink" Target="http://www.youtube.com/watch?v=bHMQEggEG4k&amp;feature=related" TargetMode="External"/><Relationship Id="rId6" Type="http://schemas.openxmlformats.org/officeDocument/2006/relationships/hyperlink" Target="http://www.youtube.com/watch?v=bHMQEggEG4k&amp;feature=related" TargetMode="External"/><Relationship Id="rId7" Type="http://schemas.openxmlformats.org/officeDocument/2006/relationships/hyperlink" Target="http://www.youtube.com/watch?v=BoE5zaAjr8Q&amp;feature=related" TargetMode="External"/><Relationship Id="rId8" Type="http://schemas.openxmlformats.org/officeDocument/2006/relationships/hyperlink" Target="http://www.youtube.com/watch?v=BoE5zaAjr8Q&amp;feature=related" TargetMode="External"/><Relationship Id="rId9" Type="http://schemas.openxmlformats.org/officeDocument/2006/relationships/hyperlink" Target="http://www.youtube.com/watch?v=BoE5zaAjr8Q&amp;feature=related" TargetMode="Externa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os, Ethos and Path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ajority of arguments in the popular press are heavily dependent on pathetic appeals.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peals to pathos touch a nerve and compel people to not only listen, but to also take the next step and act in the wor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thos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8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is advertisement appeal to emotion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724280" y="1066680"/>
            <a:ext cx="37720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hos, Logos, Patho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NER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h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thical appeal &amp; speaker’s cred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(Create your own appeal about why students should or should not be allowed to use their I-Pods in the classro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ogical appeal/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(Create your own appeal about why students should or should not be allowed to use their I-Pods in the classro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motional app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(Create your own appeal about why students should or should not be allowed to use their I-Pods in the classro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types of Evid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22032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Personal Experience (anecdotes/stor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tatistic/Reason/F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Allusion (historical refere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Authority and or quotes ( expert inform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 Examples and or qu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 Analogy (comparison…like a long simi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 Hypothetical Situatio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description of somethin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 Commentary (comments from author or oth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Evidence Label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ARTNER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40381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 ARG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200400" y="685800"/>
            <a:ext cx="5943600" cy="5776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52280" y="1066680"/>
            <a:ext cx="312444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LID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Arial"/>
              </a:rPr>
              <a:t>COPY ON LEFT &amp; RESPOND ON THE RIG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ow do Americans feel about drink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lide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124600" y="304920"/>
            <a:ext cx="4019400" cy="5943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28600" y="533520"/>
            <a:ext cx="4648320" cy="57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LID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COPY ON LEFT &amp; RESPOND ON THE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Who is the audience?  To what do these appeal?  What type of argument is being us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lide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lide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lide 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lide 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lide 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48320" y="609480"/>
            <a:ext cx="3870360" cy="59436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8600" y="304920"/>
            <a:ext cx="4038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LID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RESPOND ON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o is the audience?  To what do these appeal?  What type of argument is being us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876920" y="457200"/>
            <a:ext cx="3801960" cy="57913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80880" y="380880"/>
            <a:ext cx="3581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LID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RESPOND ON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o is the audience?  To what do these appeal?  What type of argument is being us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Whenever you read an argument you must ask yourself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Is this persuasive? And if so, to whom?" 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886200" y="228600"/>
            <a:ext cx="4952880" cy="6095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28600" y="0"/>
            <a:ext cx="33526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LIDE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RESPOND ON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o is the audience?  To what do these appeal?  What type of argument is being us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122720" y="0"/>
            <a:ext cx="5021280" cy="6629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80880" y="45720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LIDE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RESPOND ON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o is the audience?  To what do these appeal?  What type of argument is being us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681360" y="0"/>
            <a:ext cx="5462640" cy="6629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304920"/>
            <a:ext cx="35053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LIDE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COPY ON LEFT &amp; RESPOND ON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at do we associate with drink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lide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724280" y="228600"/>
            <a:ext cx="4081680" cy="6629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0"/>
            <a:ext cx="44960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LIDE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COPY ON LEFT &amp; RESPOND ON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at is happening here?  What emotional impact do these have on the view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lide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lide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607000" y="228600"/>
            <a:ext cx="3537000" cy="63244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04920" y="174600"/>
            <a:ext cx="457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LIDE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RESPOND ON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at is happening here?  What emotional impact do these have on the view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378320" cy="6629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174600"/>
            <a:ext cx="4572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LIDE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COPY ON LEFT &amp; RESPOND ON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at is a PSA?  Which is more effective (respond after seeing both slide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lide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lide 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48320" y="304920"/>
            <a:ext cx="4322520" cy="6095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52280" y="174600"/>
            <a:ext cx="4419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LIDE 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RESPOND ON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at is a PS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= Public Service Announcement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Which is more effective? Why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=Xb5yTanmi7A&amp;feature=related_x000b_</a:t>
            </a:r>
            <a:br>
              <a:rPr sz="3200"/>
            </a:b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youtube.com/watch?v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=bHMQEggEG4k&amp;feature=related_x000b_</a:t>
            </a:r>
            <a:br>
              <a:rPr sz="3200"/>
            </a:b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youtube.com/watch?v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=BoE5zaAjr8Q&amp;feature=rel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There are several ways to appeal to an audience.  Among them are appealing to </a:t>
            </a: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logos, ethos and pathos. 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531828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These appeals are prevalent in almost all argumen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Logo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Greek word logos is the basis for the English word logic.  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ogos refers to any attempt to appeal to the intellect, the general meaning of "logical argument."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day arguments rely heavily on ethos and pathos, but academic arguments rely more on logos: there will be logical chains of reasoning supporting all claims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o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6324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ew of our children breath fresh air in their schools, which are being sprayed, inside and out, with millions of pounds of deadly, nervous system destroying pesticid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What are the details provided in this clai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553080" y="152280"/>
            <a:ext cx="2274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Ethos: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thos is related to the English word ethics and refers to the trustworthiness of the speaker/writer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thos is an effective persuasive strategy because when we believe that the speaker does not intend to do us harm, we are more willing to listen to what s/he has to sa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a judge comments on legal precedent audiences tend to listen because it is the job of a judge to know the nature of past legal cas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os Exampl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: George Foreman and his Grilling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rtoire: Boxing Champ and a Pre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George Foreman credi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4572000"/>
            <a:ext cx="1930320" cy="1981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086600" y="0"/>
            <a:ext cx="1762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Pathos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hos is related to the words pathetic, sympathy and empathy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ever you accept an claim based on how it makes you feel without fully analyzing the rationale behind the claim, you are acting on pathos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may be any emotions: love, fear, patriotism, guilt, hate or jo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1:12:49Z</dcterms:created>
  <dc:creator>Tech Resources</dc:creator>
  <dc:description/>
  <dc:language>en-US</dc:language>
  <cp:lastModifiedBy>Nvasquez</cp:lastModifiedBy>
  <dcterms:modified xsi:type="dcterms:W3CDTF">2010-04-29T18:07:35Z</dcterms:modified>
  <cp:revision>9</cp:revision>
  <dc:subject/>
  <dc:title>Logos, Ethos and Pathos</dc:title>
</cp:coreProperties>
</file>